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A1F1-16EC-4235-9C85-031812608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4F3B-1C32-454D-A512-E723127E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F791-A6EE-4B4A-97D6-F5684AA51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1E87-E133-442B-8E31-4006E67B2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B282-2BC9-4C54-8CC2-AF946FC5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A212-4767-4116-B34F-20DA0E72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DD80-FE36-4EA9-B2B7-7CD92171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3F1F-20FB-4CC7-A6EF-348868A1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3C6E-61DC-4EBF-B24F-9F5F0B61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C3EE-D0BC-4AD3-AD9E-3AEB822D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7FE6-17DF-4B19-AB40-2DFACD56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C2C4-A63D-4092-B7B1-30660FB7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2F56-FAD8-4FDE-A9FA-604B3F62D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10:03:04Z</dcterms:created>
  <dc:creator>Grupo Editorial</dc:creator>
  <dc:description/>
  <dc:language>en-US</dc:language>
  <cp:lastModifiedBy>Grupo Editorial</cp:lastModifiedBy>
  <dcterms:modified xsi:type="dcterms:W3CDTF">2001-11-13T10:04:59Z</dcterms:modified>
  <cp:revision>1</cp:revision>
  <dc:subject/>
  <dc:title>Sin título de diapositiva</dc:title>
</cp:coreProperties>
</file>